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B42-223F-46FF-9A42-85DECFEC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D12-7AD8-4C20-8971-F1715CA0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E7E-DA90-44CE-8C83-757069B0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8FA-BE6F-452F-83E5-C827457A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98D-2EB0-4488-828C-B1828F7F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6F2-042E-44F6-B873-E8F8602B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084-2355-4C5C-A8BC-11B4921B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1B6-6AF0-4877-9F5B-09694BE5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AB8-2216-4FDB-92CF-667FF92D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4E4-A26C-407A-A3F7-CF39845F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015-95AD-409F-9B4B-409927C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7A4-D75D-454F-A4C0-07F5F36E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E59F-04C1-440A-BC9D-9E8F43C51D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933640" y="40006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buscador de internet se l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1908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18720" y="4816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928880" y="3929040"/>
            <a:ext cx="55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ién fue el campeón de la Eurocopa d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214800" y="40006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 e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÷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048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14800" y="400068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 e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÷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07188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trae buena sue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19080" y="48164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362200" y="542916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gmentos de vidrio o céra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4160" y="544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06160" y="4797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am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307188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trae buena sue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62200" y="5429160"/>
            <a:ext cx="27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gmentos de vidrio o céra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tros contien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9048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tros contien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857240" y="40006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dedos tienen los Simpsons en la m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857240" y="40006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dedos tienen los Simpsons en la m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país no tiene frontera con Sui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19800" y="4816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3816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06160" y="544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5440" y="479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33640" y="40006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buscador de internet se l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10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1406160" y="544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357280" y="392904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país no tiene frontera con Sui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28600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A qué país pertenece la isla de Corceg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18720" y="4816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38160" y="544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06160" y="54450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580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405800" y="4797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286000" y="39290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A qué país pertenece la isla de Corceg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500200" y="40006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n qué país no se paga con el 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3852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06520" y="544500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06520" y="4797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543852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500200" y="40006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En qué país no se paga con el 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8920" y="39337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do fue el primer campeonato mundial de cortar hiel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-648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258920" y="39337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do fue el primer campeonato mundial de cortar hiel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78604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as aristas tiene un cub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78604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as aristas tiene un cub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28600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l es el ancho de una portería de futbo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344680" y="400536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ómo se llama la capital de Turqu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8680" y="48164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l es el ancho de una portería de futbo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9048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344680" y="400536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ómo se llama la capital de Turqu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571840" y="39290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bros hay de Harry Po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71840" y="39290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uántos libros hay de Harry Po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476360" y="39337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cantante canta la canció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476360" y="393372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é cantante canta la canció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C:\Users\Petr\Desktop\podklad_def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28880" y="3929040"/>
            <a:ext cx="55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ién fue el campeón de la Eurocopa d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4360" y="4816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18720" y="4816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38160" y="5445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4520" y="54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04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3:23:31Z</dcterms:modified>
  <cp:revision>74</cp:revision>
  <dc:subject/>
  <dc:title>Folie 1</dc:title>
</cp:coreProperties>
</file>